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519-E3B3-4A2C-BB84-66BC9F87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280-E3F2-4F80-AFAB-EA618E04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66F-5B3E-4389-AD29-C5EA7745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9C3-24AE-478A-AB78-046C90D5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E88-E26F-48B0-8FC2-67F434C7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914-0219-4432-BB0A-FA92267C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419-3213-4826-8E2C-565B03AC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792-34D8-43DE-ACE5-08242638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70F-DF16-4F20-8287-EFC8F92A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DA4-8921-4C5B-959A-70FE66F1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A53-B60D-42A9-8342-FE7E4FE7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B20-3DDC-499B-9672-19939E43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B293-AA2F-46F7-9A3A-941AB5C88B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Matrice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 Math"/>
              </a:rPr>
              <a:t>Multiplicative inverse and solving matrix equation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6D, Q.10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16D, Q.1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Multiplicative inverse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ny number multiplied by its reciprocal equals 1, e.g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same occurs in matrices: if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  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n           is called the multiplicative inverse of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.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graphicFrame>
        <p:nvGraphicFramePr>
          <p:cNvPr id="45" name="Object 2"/>
          <p:cNvGraphicFramePr/>
          <p:nvPr/>
        </p:nvGraphicFramePr>
        <p:xfrm>
          <a:off x="3286080" y="2000160"/>
          <a:ext cx="109368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2000160"/>
                    <a:ext cx="109368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3"/>
          <p:cNvGraphicFramePr/>
          <p:nvPr/>
        </p:nvGraphicFramePr>
        <p:xfrm>
          <a:off x="6357960" y="4357800"/>
          <a:ext cx="20001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7960" y="4357800"/>
                    <a:ext cx="20001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4"/>
          <p:cNvGraphicFramePr/>
          <p:nvPr/>
        </p:nvGraphicFramePr>
        <p:xfrm>
          <a:off x="1857240" y="4929120"/>
          <a:ext cx="71460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7240" y="4929120"/>
                    <a:ext cx="7146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Inverse of a 2 x 2 matrix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n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</a:rPr>
              <a:t>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value of                   is known as the determinant of matrix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and can be written as det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or       . 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928880" y="1500120"/>
            <a:ext cx="1143000" cy="860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2857680" y="2643120"/>
            <a:ext cx="2781000" cy="866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3214800" y="4000680"/>
            <a:ext cx="1209600" cy="4759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4"/>
          <a:stretch/>
        </p:blipFill>
        <p:spPr>
          <a:xfrm>
            <a:off x="2786040" y="4929120"/>
            <a:ext cx="549360" cy="5716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6D, Q.1, 4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6D, Q. 4, 5, 8, 9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Singular matrix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 matrix that has a determinant of zero, has no inverse and is called a singular matrix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Matrix equation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Remember that in an equation such a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4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</a:rPr>
              <a:t>x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=9, we need to divide both sides by 4 (or multiply both sides by ¼) to obtain the answer,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</a:rPr>
              <a:t>x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= 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9/</a:t>
            </a:r>
            <a:r>
              <a:rPr b="0" lang="en-AU" sz="2000" spc="-1" strike="noStrike">
                <a:solidFill>
                  <a:srgbClr val="000000"/>
                </a:solidFill>
                <a:latin typeface="Cambria Math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We solve matrix equations the same way: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 we want to solve AX = B for X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Pre-multiply both sides by 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X = 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X = 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B    (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A = I)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      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X = 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B    (IX = X)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 we want to solve XA = B for X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Post-multiply both sides by 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XA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= B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XI = B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  (A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= I)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      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X = B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    (XI = X)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 AX = B, then X = 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If XA = B, then X = BA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mbria Math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1:10:52Z</dcterms:created>
  <dc:creator>08843474</dc:creator>
  <dc:description/>
  <dc:language>en-US</dc:language>
  <cp:lastModifiedBy>08843474</cp:lastModifiedBy>
  <dcterms:modified xsi:type="dcterms:W3CDTF">2011-05-16T08:18:26Z</dcterms:modified>
  <cp:revision>2</cp:revision>
  <dc:subject/>
  <dc:title>Matrices</dc:title>
</cp:coreProperties>
</file>